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7283-7BDD-4C10-A61B-18A1D427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028-7ABD-42D1-9D35-7988E20C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5077-01EA-4FEA-A6B7-0C60E6D7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171C-ACD8-4E5E-8F83-0BBFD5E6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F784-C156-4D70-9499-70AC6630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EE10-3D94-4EE0-9AB7-068167A5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5CF2-F71F-4433-9D0F-742C46FA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A40F-66A9-41CB-872E-AF1D282C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319B-78AD-452B-BBFE-3F679BA4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2F3E-30F8-49C0-BE38-738F587F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846E-748C-4645-8409-D4AEBDEF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F34D-880D-477E-B131-2DD50949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2199-0781-495B-886D-A87F4B20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75DF-0ABF-4B7A-8A36-81DA0CA6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25B0-702D-4724-8C04-AAB749BD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2076-55F6-4193-81C6-60B30FD4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47B1-8AEF-4304-8CA6-076830F6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E4A-54CC-498E-A6FE-A8C83DD7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072-2C8E-4BA0-BA23-112A11E6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3785-B5FD-474D-9816-D64DDB24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9AF5-45A1-41A1-BE1C-8E6241F8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F1A3-CE80-469A-9142-9C0B0399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8F5-ACC4-4ED3-911B-04656474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3ED8-C64A-4967-A815-F469586E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2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CC8D5-6205-40BD-A79D-52E5117717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45B2E-5E8F-4377-96F6-C6F37C18D2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-in to Age of Enlighte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nditions were in place prior to this mov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itary Aspects of Feud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War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rd would summon vassals; vassals enlist sub-vassals; Nobles unite to repel invasion; Crops and property destroyed; Casualties minim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s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ked comfort but provided defense; located on elevated ground, constructed of heavy wood or thick stone, surrounded by m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itary Aspects of Feudalism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Peace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rd hunted wild an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d mock bat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ed young Kn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training--at 21 becomes Kn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 Chival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yalty to God; Protection of oppressed; support of justice; defense of Christianity; courage, courtesy, gallantry, gene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udal Economic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 -sufficient Agricultural Ma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rm, the lord’s castle and village buil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rd Dictates the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ther Slave nor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gations-services, payment in k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verished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Agricultural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ppearance of 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s Leading to Dec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us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us wars to reclaim holy land from Musl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ened economic basis by awakening demand for Eastern goods.  Towns grew and serfs fled to c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e of National States and Absolute Mon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Government gradually regained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issance: Rebirth of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th to 17th Centu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val of art, literature an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dge between medieval and modern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an with rediscovery of Greco-Roman civ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hasized reason, a questioning attitude, experimentation, and free inqui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issance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rified the individual and approved worldly pleasures, viewing life as worthwhile for its own s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ed attention on worldly matters arising out of a secular soc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tured great achievements in literature, art, and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Feud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ystem of rigid class distinctions and static, or unchanging, way of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olit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ystem of local government and local military def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conom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ystem of self-sufficient agricultural man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nd Where W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Feudalism Practice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udalism was the predominant means of political, social, and economic organiza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stern Euro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uring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ddle A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edieval Age):  approx. 500 C.E. - 1500 C.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udalism has existed in other places and times as well, most notably in Medieval Ja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for Rise of Feud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ness of Central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Government could not protect its subjects.  Small Farmers surrendered lands to local noble in exchange for promise of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d Policy of K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rs granted landed estates to the important nobles in return for pledges of military assi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udal Soc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id Class Disti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udal society sharply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-holding nobles (aristocracy, upper cl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mass of peasants (serfs, lower cl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determined by 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f couldn’t ad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udal Society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udal Social Pyram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g owned all the land but controlled only his own estates, royal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ful Lords below the king served as vassals.  Received land grants (fiefs)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return for allegiance and militar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er Lords were vassals of the powerful lords and received fiefs in exchange for allegiance and militar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ights constituted the bulk of the feudal arm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udal Society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udal Social Pyramid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fs outnumbered the entire no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icated Vassal Lord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lesser lords received fiefs from different higher lords, they were vassals to several lords. Primary Allegiance led to disp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udal Society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udal Hereditar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tual Obligations between lord and vassal were usually heredit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ble’s title and property could be inherited only by his first born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udal 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 Central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controlled entire kingdom, couldn’t exercise authority beyond royal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gorous Local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weak King, local nobles controlled their territory.  Nobles made laws, levied taxes, dispensed justice and waged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23:47:33Z</dcterms:created>
  <dc:creator>WSD User</dc:creator>
  <dc:description/>
  <dc:language>en-US</dc:language>
  <cp:lastModifiedBy/>
  <dcterms:modified xsi:type="dcterms:W3CDTF">2010-09-13T03:04:10Z</dcterms:modified>
  <cp:revision>2</cp:revision>
  <dc:subject/>
  <dc:title>Lead-in to Age of Enlightenment</dc:title>
</cp:coreProperties>
</file>